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A06-DA12-46B0-B9A8-B47E200E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12C-0A96-41A7-916A-1A07D173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A275-EA14-4704-BC8C-C1E61A4C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97221-B3D5-45A9-85BF-0F14C73F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5DA67-8932-4098-9538-EE6458F3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B6318-A217-4098-9BBC-E36898F4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01D6C-1082-49EA-A9A2-3CDD51E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A8951-D5D9-40D3-AA85-174896DD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F228C-3968-43BF-ADC8-492C5EE6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38FA5-6552-4546-847B-E94DD7E6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9F2C-1D99-493D-B877-2E520323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13159-37C1-46E2-A805-A13A6C0D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165-EAE7-4A91-AFF4-AD6D95D3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11CE-C1FF-4684-B8F9-6E0022F2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B5C37-5F7F-4B23-9622-B3F39B7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74166-D0B5-4697-8465-BBF070F0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324FB-40AA-47DA-B071-69A2513A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954A2-6938-4ECC-84AD-EAA5F88F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2B3C1-0F45-41B8-B55B-7DC0AEDA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6CC28-5DAE-43A4-801E-98FE1EF5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D5292-8AC8-434D-8EF7-43C71B4E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0707B-2C8D-468B-A4C7-EBE83CF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06F8B-E9F5-46DA-B64F-8393CA93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011-9EC0-40F9-9B1D-194D93E6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F1BB9-A2AD-43E6-9B25-9F937B47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284C5-876B-4673-8B24-0C9B7C05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0AAD-CE9A-4DF7-B3C6-E1AB0AA3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F5AEC-46D3-4B52-8396-4A06B62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40895-F81D-449B-8122-1C26D317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FAF4-1FD0-4734-81B7-2CFD6376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B9E51-2DDF-402E-BF37-0FE9CAF6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EE4A3-DAFA-43A4-87BF-CC59268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858E3-AAEB-4AEB-8C6B-5833BAA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67BF7-79E4-4DE4-B65E-3B62AD8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AE17-5687-41BB-BAA7-77EA7EBF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BC443-8603-4A4D-81A6-F8CD52BA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520C7-E205-4645-9E13-2F102BA8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1E23C-90AE-4A26-8FEE-BE35F71F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2DBA7-141A-4D36-994C-378C64AA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00782-EBEB-4E6A-B52A-1305B12B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BEDBD-FCA7-4EB8-B4C4-3317BB6B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7FF42-A5BD-4268-BE53-3DAE9B0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24A80-6CCC-4749-8450-D52AFCFD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C97F9-1216-4C19-AD7F-5CC6DEC2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A5B5-122E-481D-B45B-8891BE6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7215-8C12-4254-A3AC-CB1D5677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C37E6-BB08-4446-B257-2EB9007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39C59-1486-490B-8CF2-7D84D611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2DAD8-1D5B-4DAC-9869-21D3EF76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B59A6-10AD-4CCA-8E91-B247AEB6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3477E-7FB1-422B-AC8F-F407F452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D8F3-2AF4-45A3-98A6-A621DEF2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C61E-7D92-4FA1-9095-6AA98442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FF6F-42A9-4CB3-A08E-92FD12D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E484-7F25-4472-B087-F5890F3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D41-4C66-43AF-9EE8-45D4C2D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8B4-CA59-49DE-853F-0DDA6D90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E23D-3DF4-4CFD-BD8F-272DD4F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976B-3A08-4AB4-B956-8A41D82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C50F-0D85-495A-B54F-CE3B3407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A3CD-26F1-4D88-9396-2B9ED707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083D-6D44-4363-822F-6060B617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CF2F-CB01-42ED-8B26-7F3C9206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BC9E-14C4-455C-A336-5BF5BC3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AE28-1952-46FF-BBF9-48DDF7F6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9EEC-83BD-4539-96DB-E6D8385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39AA-94CD-48CA-AA14-9438F40F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4C3-9A42-41F5-AA25-56BC06D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6D4C-FC54-4227-946B-049C85E0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CC5D-F358-417C-B09D-5D77134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7ABA-49E6-41A9-9376-32BA47F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73A1-9B04-4F8C-91A6-32C2B9F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03A9-9DB2-4968-B5C2-FEA4E679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582C-6F59-416F-9DE8-265611AB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F0B4-1804-4248-94AE-7B85056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82D95-BB98-4179-8132-C62E557D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E258-E0B9-483D-929E-9517DB5B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CC79-327D-4B7F-A4A5-483657E3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899-EC0E-403E-AEE3-EEABD78A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6DC7-09D4-4428-ACA3-76A48298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DDD7-A810-4002-A5C4-8C327E0C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18DA-EF00-40BE-A6A8-D5CA67D3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34DAA-2202-457D-9C43-2FD27BB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A3FD-0B2D-4245-BA80-16ADE41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093A-003A-4E4B-BAE3-FA99F455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085B-5449-4A68-951A-CAE573B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731B-93A7-4C45-8147-F1D11347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2998-CB52-4574-98A2-036C1211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25E6A-D3CE-401E-8AC1-00441868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27F-4A7E-4E5F-B41C-6CBDBD2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74743-E5FB-4EE4-A458-3E732821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BCCD-4DAD-4148-AD21-9E93F43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4736-4D68-4CC0-825F-B7EF9D1F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1D9E-191D-42CD-96C7-AD66464D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BD335-2D22-4659-8D1F-8FD62083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734B-1F3E-4995-B36A-39259D6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ECEC-A92B-4ED8-82CC-A2E305F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FD713-24A2-4E24-82AE-4712F51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98C9-5F09-4C78-A511-A98F15F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D452-C6D8-47CA-BF1F-C0B27FE4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351-979B-4F2B-B926-D0D9AC39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44D1-EE78-4659-886D-8D9BB6C7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0AE4E-E8A4-4C63-8FE9-D2D0BCA3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535FB-2CAF-4C89-B87F-93784F6A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003CB-25E1-49FB-B6D0-CDF0551F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6D4F-EEBF-4A5A-958F-D4E3DC7F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E006-44AC-44C7-8DBE-961E3E73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5D68-CC27-4C69-BE3F-730769B0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7ED1-38C8-4A70-A728-22CF113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DE768-1301-4E21-986B-FBD2F6D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8D3E-B046-4A2E-999E-8A261A9B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B9B-835A-4AD6-9854-262EA2F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EECC6-D6EA-4576-A070-D2EF7D50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ED0C-D2E4-41CE-A8DC-36638CAA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3362-7D96-460F-ADAA-F170764D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6F3B-1A26-45DE-9DCA-B354E986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C5BC-CC52-4FA0-8243-3E9F5476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F0FC6-2273-4FB0-8E13-C794CD2F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C479-7659-4216-AC5D-B5BC8391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0C7A-3D52-4ECD-BFB8-043F6214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D4E4-BC80-4B1E-8788-87419A3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08E5-89CF-4970-8229-5413E2E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9AF-4FBF-4236-8709-D15DC376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DF481-CA4F-43CB-A74C-6EB0AC2D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E0490-093D-4BB4-BB2E-8015AFC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9213E-6782-4F92-907A-9D540D5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45DE-5939-4F8D-93C2-C9025C6D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20D79-932A-4E05-969B-502CB86C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EDEB-CE15-4C0C-9C9D-982B4AA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289B-A29F-4ADD-B6C1-55469F2C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1966-2273-44CF-BEF2-4EB68BA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6EFA8-181E-44C4-BDB6-6EEBCCAB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81809-ABDE-471B-B03F-AFE9DF07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F29-DFEE-4649-924D-1CED19E2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E1FFB-133F-4038-8AFC-9AF9B900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B388-A659-439A-98BB-D280554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9090F-01B8-40D4-96E5-06DF7C2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B1376-D134-452D-8BDB-3972ED8A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088B-9DD6-4B36-BB1C-92257C46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0B7D5-5357-46E3-B3F6-85160C5F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85AA-53E7-4D76-BD8D-CC57ACE7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53036-A1F9-4F8D-B2E7-546CFC32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67869-650C-4B0C-AE32-B2576E2A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B1C96-FB7F-44BA-9A90-344E25EF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89A-D0B8-481A-8BB8-9C165841C9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8126-B6D2-4BF1-BC99-C71980DB19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834A-8172-4D2B-88C0-83EF39DBEA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115-DEC4-4E6A-80C7-D9D07561BE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6D1-B04E-4DFF-9DAD-1E35F71B45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44F-020D-4275-92B3-E1A766F1ED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7E07-B2C4-4AE6-A2D3-ECFD4C484B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9CE4-FCCD-40DB-9B90-A2F6DD0CCA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87E-8B90-4A67-8AAB-50DFE3DA94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08E-1565-49D9-8CB1-9BBEABD6E6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ED2-39C9-4BE5-A3E7-57A812C9C9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B77D-C5F2-413D-B216-B1F9779940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5 Deti Božie, vďačne, svor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uč nás vždy verne slú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zájom sa mil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každý z nás vždy túž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blížnych privádz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ti Božie, vďačne, svor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loňme hlavy, kolen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hvále, prosb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ia spo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voj ľud rád požeh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dami sme jeho te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Hlava, vedie nás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avujm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bajme len na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dnes opäť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luvu s Pánom obnov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seľ, srdce dať si smi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krvou očis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vieru a lásku čist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riateľ keď útoč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jdeme vždy pomoc ist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žišovom náru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 ako Boží sluh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sa blížnych mil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niť, podopierať druh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tový zaň život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ď na Pána, ktorý za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ieť na kríž z lásky 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on, tak všade šír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vet ho poznať sm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láskou obdar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ocni, zjednoť Boží ľu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 nás lásky oheň pl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sloboď nás z hriechu pú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40:34Z</dcterms:modified>
  <cp:revision>21</cp:revision>
  <dc:subject/>
  <dc:title>Je veľký náš Pán, on slávy je Kráľ Nech do všetkých strán  spev vrúcnych znie chvál.</dc:title>
</cp:coreProperties>
</file>